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8942-9F01-42C5-93E5-5CCA06CD0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1C8B-6F03-4D52-808B-4D4CA1124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D349-2095-4870-B6D1-2B3576044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1355-010C-44B0-994F-62D7AE022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590F-FDA4-4EB3-81C6-E51F95A91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18EC-6E59-44B7-B263-4B275C9E2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368E-4C0E-4354-8B67-F743A6D23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4FFB-7E38-44FD-BCB3-BCCAE5345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8CF8-BA0A-4B72-8B3C-D116A4BBB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3522-07D1-409E-A587-EE2C0FE4E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0035-42F7-4FA1-8B4D-5F39597DB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770A-B03B-44B6-9F31-BA68701C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B5C-BA13-4BD9-BB2C-823E71197C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2C73-2FB9-415A-85D5-77C55B0477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436E-61C7-4A80-A1AB-925C174FF1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CDA-24AA-43BC-9FD3-C95187A02D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4049-EB0D-41FA-8268-E9EA11DC82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E252-DCD5-429D-AF65-90EE109859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9EC-91CC-44A3-8C3A-253B3183F5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7C89-E47D-4B21-B784-CFB20A78B6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390920" cy="4781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9446-4050-4FA8-A0F7-FF26506E32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6736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54D4-2902-4B36-B5CF-EA895A039D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76AC-C594-465D-92BD-13FB2AC0D8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9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4417-F04E-40A7-939D-F606D3B174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25772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84A8-5C83-44E9-BEF5-4F7F2D4CE4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AC55-EABE-4F15-B78A-CFF2D88F4D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,   ¾,   5/6,   3 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½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DBC8-98E7-4AE3-B9D3-DB4E5171DE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5D09-2C80-4E7B-8416-30AC09EF09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6E6-9195-4DB8-BD59-1F9E24C7D4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A7D-D7E7-43AE-A279-1ECD8BF511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ddress the continuum of learning that might exist in a Grade 6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877F-CEA0-4253-9364-53278F1CC0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BE7-3118-437B-B6D3-102396D146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606A-BBD1-445E-9349-E915CF3DFB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t Milot</cp:lastModifiedBy>
  <dcterms:modified xsi:type="dcterms:W3CDTF">2012-07-12T21:01:34Z</dcterms:modified>
  <cp:revision>39</cp:revision>
  <dc:subject/>
  <dc:title>&lt;Title&gt;</dc:title>
</cp:coreProperties>
</file>